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4E5-6C75-41F6-B2ED-44D44645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2C6-8BDF-4FF9-8F6D-0ED62A53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1CB-A396-41CE-8BB4-1886D9B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C5D-F533-46AA-8E29-7A5B67E1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665-2FAD-4F86-A8FD-49AA97D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9F9A-16A0-4D9E-AE78-1206ADB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52B-B1E5-45A8-AC35-70A29F5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39F6-4BEB-455F-9C4A-C878E69D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9203-7321-40B8-BCA9-B3E99351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DD7-CE9A-4617-84C5-B0963A5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637-2C84-4EF6-84BE-0FBB531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CAB-1827-4A23-8677-99A75863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47EC-E23D-49F0-A400-FCDF821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E81-4E3F-47AE-90DC-70B77DE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3DA2-8B26-418D-A9D4-7BC131B1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9876-1BAF-4D56-91DA-743927FC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60A3-CBD9-4F7C-BDF3-13D556B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8EB-B454-4BA5-AB45-58D53955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2DB-84D9-4D5E-86FE-FACB4CA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823-E639-4934-81C8-6EC1069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DEA-1D2C-47FD-93EA-A052953B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9D2-0CE7-4440-84F2-C89D945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86B-84CB-4711-8D36-01D66FE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66B-B570-491E-AAB2-E2E5182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3F8-8587-4926-80FA-C71F5D216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A6B-16E9-4D1A-8A94-82AC55E9F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dows Pesticide Screening Tool 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Water and Climate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herst, 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PRA (National Agricultural Pesticide Risk Analysis) Te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Bagdon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st Management 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ic Hesketh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il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assachusetts 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ve Plotk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a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gan Hug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ftware Engin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-PST is Pesticide Screening Too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con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sticid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risk rating class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e.g., High, Intermediate, Low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planners determine when mitigation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for NRCS Field Office use 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PU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iar Applic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CS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ssib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N-P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ISP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orbed Lo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991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SPISP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il/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ticid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teractio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reening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cedure version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s Management and Toxic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SP 1  in  NRCS field offices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URG  uses SPISP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34290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9440" y="1066680"/>
            <a:ext cx="22590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Rating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066680"/>
            <a:ext cx="2997360" cy="1068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 Ra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69280" y="2666880"/>
            <a:ext cx="313560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R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86200"/>
            <a:ext cx="16002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6960" y="5334120"/>
            <a:ext cx="28324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zard R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374200">
            <a:off x="259092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7774200">
            <a:off x="5105160" y="19810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on” Hazard Catego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920" y="4952880"/>
            <a:ext cx="8381880" cy="1371600"/>
            <a:chOff x="304920" y="4952880"/>
            <a:chExt cx="8381880" cy="1371600"/>
          </a:xfrm>
        </p:grpSpPr>
        <p:sp>
          <p:nvSpPr>
            <p:cNvPr id="123" name=""/>
            <p:cNvSpPr/>
            <p:nvPr/>
          </p:nvSpPr>
          <p:spPr>
            <a:xfrm>
              <a:off x="304920" y="4952880"/>
              <a:ext cx="8381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L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00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Very Low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8120" y="5181480"/>
              <a:ext cx="685800" cy="83844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257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</a:rPr>
                <a:t>Mitigation not necessa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41148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lvl="1" marL="564480" indent="-217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medi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basic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1 or 2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14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ra High    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itigation may 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004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igation - higher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3 or more practic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-P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g. producers- hazards of pesticide los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nfluence ‘hazar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ntially high risk soil/pesticide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apply conservation practices &amp; mitigation techniques that reduce hazardous pesticide l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4:10:19Z</dcterms:created>
  <dc:creator>Eric Hesketh</dc:creator>
  <dc:description/>
  <dc:language>en-US</dc:language>
  <cp:lastModifiedBy>Eric Hesketh</cp:lastModifiedBy>
  <cp:lastPrinted>2000-03-09T18:36:41Z</cp:lastPrinted>
  <dcterms:modified xsi:type="dcterms:W3CDTF">2001-03-20T23:48:16Z</dcterms:modified>
  <cp:revision>14</cp:revision>
  <dc:subject/>
  <dc:title>Windows Pesticide Screening Tool WIN-PST</dc:title>
</cp:coreProperties>
</file>